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A090-82F6-4B9A-8B60-D469DA85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64AB-BEE5-46C3-8F6F-F20D6456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15F-E33C-486B-A5E9-C5FB6DA7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51B5-A9E8-417C-8378-7F0B8888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DEEC-E76C-4CD8-B2DA-C5701CE5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A004-D43D-48A5-A8CB-22CA805D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7FAD-890F-4E24-9150-95002F9F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091C-A08A-424A-BF79-14D780F7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4B97-A4F1-43E5-9243-E291E58D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AB33-1D07-4D36-9768-0C3CA9CE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FD6F-F49D-4420-9EFB-348DE59F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827-96DD-480D-9F86-D4488A92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AE86-EABD-4663-8C00-C82BEA41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4A9C-F634-4277-9E7F-16111676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4E03-707E-4CC8-ACFD-8EC5A2FA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1F42-F8C3-4C25-B84D-43A91950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5392-A7D9-461F-89E4-4094BFE3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8B1-B03F-44A4-8044-E32D6C9B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32D-FA6B-4FE3-AC72-862127A2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86A2-7C78-4FAE-827E-A1D58DC8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8333-539B-4D76-9B39-95D94827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79E-79A7-4940-AAC5-075AC339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D7B2-61D2-4146-9711-1678BE66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268-5D9E-419B-9AFA-FE00A7A0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2AC2-09D7-4DCB-BF30-054BFB068337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6A58-1D10-4D06-B1C5-0B3B95CFB28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pite popular belief to the contrary, no matter how many times you tosses a coin, it has a 1:2 probability of coming up heads, even if you are extremely luck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re is nothing more important than the breath of life and when a person stops breathing it is a simple fact that there is only enough oxygen in the blood and other tissues to sustain the precious gift of life for a few minu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ournal #65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cribe a thunderstorm.  Be specifi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wish to take this opportunity to Thank You from the bottom of my heart for taking time out of your busy and important schedule to interview a poor, struggling student like M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achel finds it difficult to speak in public despite that she faces her fear head on and auditioning for the school pl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ournal #66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could step back in time to re-live one day, what would you do differentl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-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riday Warm-up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You’r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is the contraction of you are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You’re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oming tonight, aren’t you?)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Your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s a possessive pronoun (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Are you bringing 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your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brother?)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If you’re not sure which is correct try substituting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you ar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  If that sounds wrong, you know that you should use your instea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3657600"/>
            <a:ext cx="85345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Fill in the blanks with you’re or your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_______ son has a serious behavior problem, probably because _______ much too indulgent with him.  ______ child-rearing methods are too relaxed.  ______ making a mistake if you think ________ devil-may-care approach to parenting will work.  _____ son doesn’t respect you, and if this lack of discipline continues, _____ going to wind up bailing him out of jail one day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8:15:24Z</dcterms:created>
  <dc:creator>tpagel</dc:creator>
  <dc:description/>
  <dc:language>en-US</dc:language>
  <cp:lastModifiedBy>tpagel</cp:lastModifiedBy>
  <dcterms:modified xsi:type="dcterms:W3CDTF">2010-06-03T18:15:43Z</dcterms:modified>
  <cp:revision>1</cp:revision>
  <dc:subject/>
  <dc:title>Warm-Up Sentences</dc:title>
</cp:coreProperties>
</file>